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CFE3D-5949-46C1-A104-072601377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D7C-BE80-447E-A954-FA2CA14C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933-FCEA-427D-9261-7475885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741-4F0E-4F20-8753-E13DE3EE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F7A-4FDE-4352-A72B-08AE84D2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8E5-E4F6-4D0D-AA15-0E07B19E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0FF-9205-4C77-9C8C-AD8CCBF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BD1-5C74-4F3C-A196-14C2BFB5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BD1-0FC1-4856-BD14-1A861613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B8F-6F28-4B62-B9FD-5B7CF0DF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FFF-1085-4529-BADA-E5600A37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88F-D249-4EA2-89FA-517E4EE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662-9856-4B94-8B7A-BC0ACD7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0238D-F488-45B3-933A-6E45063DEB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64160" y="3108240"/>
            <a:ext cx="2286000" cy="639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ega 324 PA-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68520" y="3108240"/>
            <a:ext cx="1920960" cy="4572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zor infraro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51440" y="3747960"/>
            <a:ext cx="1800" cy="274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2240" y="3036960"/>
            <a:ext cx="1371600" cy="8953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or de tensi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05 (5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9720" y="4389480"/>
            <a:ext cx="1920960" cy="639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re 7.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3840" y="3475080"/>
            <a:ext cx="27468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1720" y="1847880"/>
            <a:ext cx="1279440" cy="9874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 de moto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98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1720" y="4022640"/>
            <a:ext cx="1279440" cy="8953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 de moto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98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51440" y="2835360"/>
            <a:ext cx="1800" cy="2746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24840" y="1828800"/>
            <a:ext cx="1279440" cy="4381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489720" y="2009880"/>
            <a:ext cx="738000" cy="14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489720" y="2649600"/>
            <a:ext cx="738000" cy="14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23040" y="2468520"/>
            <a:ext cx="1279440" cy="4381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24840" y="3932280"/>
            <a:ext cx="1279440" cy="4381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489720" y="4203720"/>
            <a:ext cx="738000" cy="14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489720" y="4754520"/>
            <a:ext cx="738000" cy="18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23040" y="4572000"/>
            <a:ext cx="1279440" cy="4381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9560" bIns="63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552680" y="3927240"/>
            <a:ext cx="1440" cy="4633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9480" y="3475080"/>
            <a:ext cx="27468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3840" y="3657600"/>
            <a:ext cx="246852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3840" y="3840120"/>
            <a:ext cx="20113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06960" y="3840120"/>
            <a:ext cx="1440" cy="639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06960" y="4479840"/>
            <a:ext cx="1006560" cy="1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60680" y="4664160"/>
            <a:ext cx="265104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736640" y="2558880"/>
            <a:ext cx="1800" cy="479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36640" y="2560680"/>
            <a:ext cx="347508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3600" y="4572000"/>
            <a:ext cx="27792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5040" y="2101680"/>
            <a:ext cx="1800" cy="247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2103480"/>
            <a:ext cx="4846680" cy="14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7T10:22:16Z</dcterms:created>
  <dc:creator/>
  <dc:description/>
  <dc:language>en-US</dc:language>
  <cp:lastModifiedBy/>
  <dcterms:modified xsi:type="dcterms:W3CDTF">2016-05-27T18:45:07Z</dcterms:modified>
  <cp:revision>3</cp:revision>
  <dc:subject/>
  <dc:title/>
</cp:coreProperties>
</file>